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gif" ContentType="image/gif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E84-7201-4E17-B978-B19901D7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87BC-1E57-4545-B5FD-18C889E3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6EB8-80BA-44B7-B0DC-720326B1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BD86-52E8-4413-970D-C2F9417F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BB55-22C6-42B1-9486-1B641DBB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5FC6-58B3-4EEA-9A20-30719DE8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4398-277B-4314-9896-BFB77463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3B80-5679-4903-8FB4-DA107F7A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514E-CE35-4A68-BFEA-70B61D34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7CC1-E823-4A34-A637-07760254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E7D4-E702-4CE3-873D-94991EB3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818C-52D1-4C80-904F-F3DB8371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2270-D768-4C30-AC45-6123ED92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B19E-6753-4A00-991F-B82CB94B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B6E3-0E3D-4600-BFA6-1579104B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1B72-A9C8-48D3-9356-B8AA8152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0106-463B-41DA-835E-CB3D0E90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42884-ABF6-45EE-B39F-59301F2F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F7B76-2C30-4EE0-A419-AF4DBF13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EF096-F0C0-4B9C-A6EB-888DA386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D9ED8-68D8-4490-9BF6-2471D18B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C6A10-20F4-4C6E-B1ED-E638FE10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20B-6A9F-4FEA-863E-D0359DFC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B4BD2-ABBA-47D6-B672-9550D496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644B7-D261-425E-AEF1-903EC9FD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4A347-5186-420A-8DE0-9A75749A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992BD-B73A-4B1E-8958-65F26BC1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B2B32-E3AC-42D3-8E2A-A006C860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67F6-DEC8-44F6-864C-9A83CDCA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A1A6D-8C86-40A4-8743-03B5A353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7E71A-BB03-4347-8471-69FA8354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1C365-F81C-44F3-B9EB-0E656F53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8E982-C1B5-42FC-B41C-F2DDA7C7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76E-E58F-4750-B4CF-B0D4C802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1AF4A-2CE5-436D-BA5A-D878F53A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171B4-2E65-4087-98EC-797CFFA5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4AEEA-3820-461F-BACE-D8707794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D28E5-F9C0-4BB3-A68B-BF634C29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FA369-E289-4CD1-AE10-1DFC9784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2CAB2-DFC4-4F7B-901D-25319047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8F009-F838-4288-9963-7AED09A4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32E5E-FED0-4919-9C2E-E940A77A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2C00D-587E-42E2-8843-135EFCD0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CB5-B733-4E51-B5D6-64B2FABC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FA5B-0836-4FD4-9985-F79554FD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AF4-CF14-4D66-903F-AF09EC1F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41D-E07F-48BF-81EE-7440F580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46E-A72E-4805-9B9B-6A6B6EFC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4317-3554-4D78-85A8-096A83C79A9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1949-A78F-43D7-A516-0F281741D03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C237-F290-4BDC-B8EA-30A72526F0C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E546-E5B9-4F7C-879C-30C6F5630FA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88320" cy="1847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ыполнила студентка 636 группы Горбунова Н.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83763"/>
                </a:solidFill>
                <a:latin typeface="Calibri"/>
              </a:rPr>
              <a:t>Моллюски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 тип моллюски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Моллюск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типичные водные животны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Строение тел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ловищный мешоче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Питание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и микроскопические животные; растительные и животные остатк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Среда обитан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еные и пресноводные воды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83763"/>
                </a:solidFill>
                <a:latin typeface="Calibri"/>
              </a:rPr>
              <a:t>Насекомые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ип Членистоногие, класс Насекомые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684e"/>
                </a:solidFill>
                <a:latin typeface="Constantia"/>
              </a:rPr>
              <a:t>Насекомые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– самый многочисленный класс на Земл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684e"/>
                </a:solidFill>
                <a:latin typeface="Constantia"/>
              </a:rPr>
              <a:t>Строение тел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Голо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Груд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Брюшк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Тело покрыто прочным хитиновым покро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684e"/>
                </a:solidFill>
                <a:latin typeface="Constantia"/>
              </a:rPr>
              <a:t>Питани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нообраз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3" descr="D:\натташа\картинки\Для презентаций\Насекомые\Ползающие\ANTHILL.jpg"/>
          <p:cNvPicPr/>
          <p:nvPr/>
        </p:nvPicPr>
        <p:blipFill>
          <a:blip r:embed="rId1"/>
          <a:stretch/>
        </p:blipFill>
        <p:spPr>
          <a:xfrm>
            <a:off x="7643880" y="785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:\натташа\картинки\Для презентаций\Насекомые\Летающие\YELLOWJA.jpg"/>
          <p:cNvPicPr/>
          <p:nvPr/>
        </p:nvPicPr>
        <p:blipFill>
          <a:blip r:embed="rId2"/>
          <a:stretch/>
        </p:blipFill>
        <p:spPr>
          <a:xfrm>
            <a:off x="7643880" y="5357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D:\натташа\картинки\Для презентаций\Насекомые\Летающие\FLYIN003.jpg"/>
          <p:cNvPicPr/>
          <p:nvPr/>
        </p:nvPicPr>
        <p:blipFill>
          <a:blip r:embed="rId3"/>
          <a:stretch/>
        </p:blipFill>
        <p:spPr>
          <a:xfrm>
            <a:off x="857160" y="2928960"/>
            <a:ext cx="1857600" cy="1428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83763"/>
                </a:solidFill>
                <a:latin typeface="Calibri"/>
              </a:rPr>
              <a:t>Жуки </a:t>
            </a:r>
            <a:br>
              <a:rPr sz="4500"/>
            </a:b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тип Членистоногие, класс Насекомые, отряд Жесткокрылые, или Жуки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Жу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чень большой и разнообразный отряд Насекомы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троение тела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олове – ротовой аппарат, глаза ,уси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руди – три пары членистых конечностей и две пары крылье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и – роющие, бегающие или плавающ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итан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асти расте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реда обитан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, листья, почва, корень, ствол дерева,  плод, цветок, семе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D:\натташа\картинки\Для презентаций\Насекомые\Ползающие\COCKROAC.jpg"/>
          <p:cNvPicPr/>
          <p:nvPr/>
        </p:nvPicPr>
        <p:blipFill>
          <a:blip r:embed="rId1"/>
          <a:stretch/>
        </p:blipFill>
        <p:spPr>
          <a:xfrm>
            <a:off x="6429240" y="3571920"/>
            <a:ext cx="2143440" cy="1857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83763"/>
                </a:solidFill>
                <a:latin typeface="Calibri"/>
              </a:rPr>
              <a:t>Амфибии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тип Хордовые, подтип Позвоночные, класс Амфибии, или Земноводные, отряд Бесхвостые, род лягушки, род Жабы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9" name="Скругленный прямоугольник 3"/>
          <p:cNvGrpSpPr/>
          <p:nvPr/>
        </p:nvGrpSpPr>
        <p:grpSpPr>
          <a:xfrm>
            <a:off x="712800" y="2610000"/>
            <a:ext cx="2432160" cy="3571560"/>
            <a:chOff x="712800" y="2610000"/>
            <a:chExt cx="2432160" cy="3571560"/>
          </a:xfrm>
        </p:grpSpPr>
        <p:pic>
          <p:nvPicPr>
            <p:cNvPr id="210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712800" y="2610000"/>
              <a:ext cx="2432160" cy="35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896760" y="2754360"/>
              <a:ext cx="206388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Constantia"/>
                </a:rPr>
                <a:t>Безног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Constantia"/>
                </a:rPr>
                <a:t>(Амфиби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Похожи на Змей. нет конечностей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По строению кожи, способу размножения и дыхания они являются Земноводным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Скругленный прямоугольник 7"/>
          <p:cNvGrpSpPr/>
          <p:nvPr/>
        </p:nvGrpSpPr>
        <p:grpSpPr>
          <a:xfrm>
            <a:off x="3352680" y="2610000"/>
            <a:ext cx="2438640" cy="3571560"/>
            <a:chOff x="3352680" y="2610000"/>
            <a:chExt cx="2438640" cy="3571560"/>
          </a:xfrm>
        </p:grpSpPr>
        <p:pic>
          <p:nvPicPr>
            <p:cNvPr id="213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3352680" y="2610000"/>
              <a:ext cx="2438640" cy="35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540240" y="2754360"/>
              <a:ext cx="20635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Constantia"/>
                </a:rPr>
                <a:t>Хвостат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Constantia"/>
                </a:rPr>
                <a:t>( Тритоны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Легко живут в неволе. Но требуют к себе очень большого внимани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Скругленный прямоугольник 8"/>
          <p:cNvGrpSpPr/>
          <p:nvPr/>
        </p:nvGrpSpPr>
        <p:grpSpPr>
          <a:xfrm>
            <a:off x="5999040" y="2610000"/>
            <a:ext cx="2432160" cy="3571560"/>
            <a:chOff x="5999040" y="2610000"/>
            <a:chExt cx="2432160" cy="3571560"/>
          </a:xfrm>
        </p:grpSpPr>
        <p:pic>
          <p:nvPicPr>
            <p:cNvPr id="21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5999040" y="2610000"/>
              <a:ext cx="2432160" cy="35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183360" y="2754360"/>
              <a:ext cx="206388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Constantia"/>
                </a:rPr>
                <a:t>Бесхвостые (Лягушки и Жабы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Рекомендуется знакомить детей этим отрядом подробно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ептилии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( пресмыкающиеся)</a:t>
            </a:r>
            <a:br>
              <a:rPr sz="29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отряда: Змеи, Ящерицы, Крокодилы, Черепахи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Черепахи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тип Хордовые, подтип Позвоночные, класс Рептилии, или Пресмыкающиеся, отряд Черепахи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0670"/>
                </a:solidFill>
                <a:latin typeface="Times New Roman"/>
                <a:ea typeface="Times New Roman"/>
              </a:rPr>
              <a:t>Строение тела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ловищ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ос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0670"/>
                </a:solidFill>
                <a:latin typeface="Times New Roman"/>
                <a:ea typeface="Times New Roman"/>
              </a:rPr>
              <a:t>Среда обитания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ная черепаха – степные, полупустынные регионы Средней Азии и Казахста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отные черепахи – европейская часть России, Приморье, Кавказ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3" descr="D:\натташа\картинки\Коллекция картинок 3(Microsoft)\j0356644.gif"/>
          <p:cNvPicPr/>
          <p:nvPr/>
        </p:nvPicPr>
        <p:blipFill>
          <a:blip r:embed="rId1"/>
          <a:stretch/>
        </p:blipFill>
        <p:spPr>
          <a:xfrm>
            <a:off x="785880" y="3357720"/>
            <a:ext cx="25718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r>
              <a:rPr b="1" lang="en-US" sz="4600" spc="-1" strike="noStrike">
                <a:solidFill>
                  <a:srgbClr val="000099"/>
                </a:solidFill>
                <a:latin typeface="Times New Roman"/>
              </a:rPr>
              <a:t>Спасибо за </a:t>
            </a:r>
            <a:br>
              <a:rPr sz="4600"/>
            </a:br>
            <a:r>
              <a:rPr b="1" lang="en-US" sz="4600" spc="-1" strike="noStrike">
                <a:solidFill>
                  <a:srgbClr val="000099"/>
                </a:solidFill>
                <a:latin typeface="Times New Roman"/>
              </a:rPr>
              <a:t>внимание!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7:16:37Z</dcterms:created>
  <dc:creator>Admin</dc:creator>
  <dc:description/>
  <dc:language>en-US</dc:language>
  <cp:lastModifiedBy>студент</cp:lastModifiedBy>
  <dcterms:modified xsi:type="dcterms:W3CDTF">2010-05-22T08:27:18Z</dcterms:modified>
  <cp:revision>5</cp:revision>
  <dc:subject/>
  <dc:title>Слайд 1</dc:title>
</cp:coreProperties>
</file>